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A4FD-3AB6-499F-A4F8-6DA942E69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B15C-1186-4873-9F54-3F37D115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A036-91C7-4075-9F3B-03A9CFBC4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5203-21BB-4C7B-84AB-AEEAC3606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2777-80FC-4D82-9A79-0672399D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2A93-D769-496E-BBCD-344841A5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D4E6-609C-41F3-A423-8108DA51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8FDB-3CEA-4738-BBAE-FCAC20F4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D2EA-8E7A-4BA4-A8D0-9F501575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2D09-0579-4E64-B156-7DAC98CB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D491-4669-4206-A5C9-CC142D9A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A29C-F5DC-44EC-AFA9-1311072A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2119-880C-4A01-A40C-90140FA4E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14800" y="-763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4731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ONKLANDS  ASSOC.                              AIRDRIE                                            AIRDRIE                                 AIRDRIE  150TH           AIRDRIE  NEW   CLUB  &amp;  MILLENNIUM         AIRDRIE - CENTRAL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20184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IRDRIE - CENTRAL                             BAILLIESTON                                 BAILLIESTON                             BAILLIESTON                        BAILLIESTON  MILLENNIUM                 BAIRDS  SCOTT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77320" y="2971800"/>
            <a:ext cx="1218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932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LLSHILL                            BELLSHILL  &amp;  MOSSEND    BELLSHILL  &amp;  MOSSEND  100TH      B.S.C. (COATDYKE)                        B S C.( COATDYKE )  75TH                             BURNHE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62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URNHEAD                                      BURNHEAD                                    BURNHEAD  50TH                        CALDERBANK                                      CALDERBANK                                CALDERCRA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72400" y="479268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05240" y="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7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8880" y="476280"/>
            <a:ext cx="1133640" cy="1060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073240" y="404640"/>
            <a:ext cx="1096920" cy="1097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584520" y="260280"/>
            <a:ext cx="1133640" cy="1230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024520" y="476280"/>
            <a:ext cx="1079280" cy="1023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6681960" y="476280"/>
            <a:ext cx="914400" cy="996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488880" y="2133720"/>
            <a:ext cx="1116000" cy="1055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2144880" y="2276640"/>
            <a:ext cx="950760" cy="950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3584520" y="2205000"/>
            <a:ext cx="1152720" cy="987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tretch/>
        </p:blipFill>
        <p:spPr>
          <a:xfrm>
            <a:off x="6681960" y="2205000"/>
            <a:ext cx="877680" cy="1023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0"/>
          <a:stretch/>
        </p:blipFill>
        <p:spPr>
          <a:xfrm>
            <a:off x="415800" y="3645000"/>
            <a:ext cx="1316160" cy="1252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1"/>
          <a:stretch/>
        </p:blipFill>
        <p:spPr>
          <a:xfrm>
            <a:off x="2073240" y="3645000"/>
            <a:ext cx="1189080" cy="1288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2"/>
          <a:stretch/>
        </p:blipFill>
        <p:spPr>
          <a:xfrm>
            <a:off x="3440160" y="3645000"/>
            <a:ext cx="1279440" cy="1325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3"/>
          <a:stretch/>
        </p:blipFill>
        <p:spPr>
          <a:xfrm>
            <a:off x="8193240" y="3789360"/>
            <a:ext cx="1242720" cy="1193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4"/>
          <a:stretch/>
        </p:blipFill>
        <p:spPr>
          <a:xfrm>
            <a:off x="560520" y="5589720"/>
            <a:ext cx="1060200" cy="1033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5"/>
          <a:stretch/>
        </p:blipFill>
        <p:spPr>
          <a:xfrm>
            <a:off x="5097600" y="5589720"/>
            <a:ext cx="1079280" cy="1060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6"/>
          <a:stretch/>
        </p:blipFill>
        <p:spPr>
          <a:xfrm>
            <a:off x="6608880" y="5373720"/>
            <a:ext cx="1371600" cy="1279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7"/>
          <a:stretch/>
        </p:blipFill>
        <p:spPr>
          <a:xfrm>
            <a:off x="4952880" y="3860640"/>
            <a:ext cx="1170000" cy="1097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8"/>
          <a:stretch/>
        </p:blipFill>
        <p:spPr>
          <a:xfrm>
            <a:off x="8265960" y="558972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9"/>
          <a:stretch/>
        </p:blipFill>
        <p:spPr>
          <a:xfrm>
            <a:off x="8193240" y="213372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0"/>
          <a:stretch/>
        </p:blipFill>
        <p:spPr>
          <a:xfrm>
            <a:off x="8193240" y="476280"/>
            <a:ext cx="1054080" cy="1054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1"/>
          <a:stretch/>
        </p:blipFill>
        <p:spPr>
          <a:xfrm>
            <a:off x="6608880" y="3789360"/>
            <a:ext cx="1147680" cy="1133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2"/>
          <a:stretch/>
        </p:blipFill>
        <p:spPr>
          <a:xfrm>
            <a:off x="3728880" y="5516640"/>
            <a:ext cx="1155960" cy="1170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3"/>
          <a:stretch/>
        </p:blipFill>
        <p:spPr>
          <a:xfrm>
            <a:off x="2144880" y="5589720"/>
            <a:ext cx="1076040" cy="1057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4"/>
          <a:stretch/>
        </p:blipFill>
        <p:spPr>
          <a:xfrm>
            <a:off x="4952880" y="2133720"/>
            <a:ext cx="123840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8T08:10:15Z</dcterms:created>
  <dc:creator>JOHN YOUNG</dc:creator>
  <dc:description/>
  <dc:language>en-US</dc:language>
  <cp:lastModifiedBy>JY</cp:lastModifiedBy>
  <cp:lastPrinted>2000-01-13T17:07:12Z</cp:lastPrinted>
  <dcterms:modified xsi:type="dcterms:W3CDTF">2008-05-20T08:03:32Z</dcterms:modified>
  <cp:revision>29</cp:revision>
  <dc:subject/>
  <dc:title>No Slide Title</dc:title>
</cp:coreProperties>
</file>